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ионеорганска хемија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мале енергетке разлике између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а комплекса електрони прво попуњавају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онд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но Хундовом прав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ање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комплекса доводи до смањења расцепа између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не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их орб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шће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ских орбитала лиганада у стварању везе метал-лиганд доприноси високоспинском стању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276800" cy="223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531680" y="1700280"/>
            <a:ext cx="46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нивои МО комплекс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лигандим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0" y="3429000"/>
            <a:ext cx="3384720" cy="2892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3511080" y="4797360"/>
            <a:ext cx="56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нивои молекулских орби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флуорогвожђе(III)-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718320" cy="3449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900000" y="530064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о орбитални дијаграм а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; б) HF моле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9280" y="1125000"/>
            <a:ext cx="85075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лекулско орбиталном дијаграму комплекса приказујемо само три орбитале (симетрије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е се преклапају са три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е централног металног ат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реосталих 12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не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три имају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и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виру комплекса оне су невезивне јер централни атом метала нема орбитале такве симет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боље прегледности дијаграма такве орбитале не приказује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-донорство халогенидних лиганада опада у низу: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релазних метала са лигандима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2060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их орбитала са којима стварај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 са прелазним металима алкилфосфински, алкиларсински лиганди стварају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 као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празне високо енергеткс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е орбитале које су на вишем енергетском нивоу од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јона прелазних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лапањем таквих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лиганада и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јона метала настају три везивн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и антивезивне (противвезивне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екулске орбитале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е орбитале попуњене су електроним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орбитала метала и т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ривањем јер је велика енергеткса разлика између везивне и антивезивне орбит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453060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900000" y="3736800"/>
            <a:ext cx="3384720" cy="2549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083120" y="2060640"/>
            <a:ext cx="47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нивои молекулских орбит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са лигандим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156200" y="4508640"/>
            <a:ext cx="47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нивои молекулских орбит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са лигандим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 условљавају стварање нискоспинских стања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лиганад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а настале молекулске орбитал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њене су електронима из лиганада, док код лиганад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а молекулске орбитале су попуњене електронима метала. Такав процес се назива процес повратне дон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атом прво прима електроне од лиганда за грађењ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, а потом враћа електроне лиганду грађењем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релазних метала са лигандима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попут карбонил и цијано лиганада стварај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 са прелазним металима, али граде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  и то као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с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орбитале лиганда попуњене оне нису у стању да приме електроне од јона метала процесом повратне дон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 се грађење нов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врши преклапањем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метала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лиган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 условљавају стварање нискоспинских стања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 лиганд као електронски богат лиганд је добар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, али слаб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 па гради најчешће класичне комплексе са металима у вишим оксидационим стањ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л гради комплексе најчешће у нултом оксидационом стању мононуклеарне али и полинуклеа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о-акцепторксе особине лиганада се могу одредити на основу зависности енталпије настајања комплекса од р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 лиг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алпије настајања комплексима који су само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и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леже на једној право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алпије настајања комплекса са лигандим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и (халогениди) леже испод те пр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алпије комплекса са лигандим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ма (P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O) леже изнад праве коју град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3562200" cy="295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07800" y="836640"/>
            <a:ext cx="3838680" cy="2205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3223800" y="1916280"/>
            <a:ext cx="56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нивои молекулских орби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са лигандим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511080" y="4221000"/>
            <a:ext cx="56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нивои молекулских орби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цијаноферат(III)-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релазних метала с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, π и δ везом. Комплекси прелазних метала са незасићеним угљоводониц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етала с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162828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код динуклеарних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и комплекси поседују метал-лиганд али и метал-метал ве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и комплекс ренијума (октахлородиренат(III)-анјон је прво једињење код кога је запажена четворострука в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4998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3957480" cy="340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33480" y="4797360"/>
            <a:ext cx="4106880" cy="1800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3430080" y="2421000"/>
            <a:ext cx="5368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ско орбитални дијаграм динуклеарно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[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а четвороструком ве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146480" y="530064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и комплекси рен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8920" y="1052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ијум(III) поседује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ски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 d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вадратно-планар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авањем два комплексна анјона ренијума [R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ази до преклапања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 baseline="-1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и стварањ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између њ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оним преклапањем њихових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ају дв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, а бочним преклапањем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ај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р поседује четири вез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м електрона из оба јона ренијума попуњавају настале четири молекулске орбитале конфигурациј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920" y="1197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 везе је 4, веома кратка веза и спада у најкраће метал-метал в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избегло одбијање електронских облака суседних анјона структура је увијена па хлоро лиганди нису директно један изнад дру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 лиганди се могу заменити и другим лигандима који могу утицати на дужину метал-метал везе (триетил-фосфи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ренијума сличне комплексе могу наградити и јони молибдена, волфрама, технецијума, али између различитих метала хрома и молибдена; молибдена и волфр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126828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и тзв.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које можемо условно назвати интрамолекулске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јер настају у оквиру једног истог молеку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е комплексе граде: хром, молибден и волф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902360" cy="208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069720" y="6093000"/>
            <a:ext cx="28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рамолекулска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релазних метала са незасићеним угљоводониц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213372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и угљоводоници се могу понашати као 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јона сребра(I) са олефин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птеиност (грчки – повезива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чему n-означава број угљеникових атома који су повезани мет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нохапто лиганд, лиганд који је повезан са металом преко једног атома угљ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1125000"/>
            <a:ext cx="8785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једињење са незасићеним лигандима синтетисао је Cajze – Цајзеова с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о је ракцију између металних хлорида и етанола с намером да добије ет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о је KCl·Pt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ма је касније установљено да је стварна структура K[Pt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·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125360"/>
          <a:ext cx="8964720" cy="5486400"/>
        </p:xfrm>
        <a:graphic>
          <a:graphicData uri="http://schemas.openxmlformats.org/drawingml/2006/table">
            <a:tbl>
              <a:tblPr/>
              <a:tblGrid>
                <a:gridCol w="1871640"/>
                <a:gridCol w="709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аптеи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иг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оно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л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-)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рил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r-)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лил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CH</a:t>
                      </a:r>
                      <a:r>
                        <a:rPr b="0" lang="sr-Latn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CH-CH</a:t>
                      </a:r>
                      <a:r>
                        <a:rPr b="0" lang="sr-Latn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)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тинил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CR≡C-)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, CN</a:t>
                      </a:r>
                      <a:r>
                        <a:rPr b="0" lang="sr-Latn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S</a:t>
                      </a:r>
                      <a:r>
                        <a:rPr b="0" lang="sr-Latn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O</a:t>
                      </a:r>
                      <a:r>
                        <a:rPr b="0" lang="sr-Latn-R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оцијано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NC),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рбидо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C)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, алк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ри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л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тра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југовани диени (бутадиен), циклобутадиенски дерив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нта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нил (циклопентадиенил) дерив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екса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и (бензен и његови супституисани деривати), циклохептатри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епта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полиум (циклохептатриени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кта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октатра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хап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и лиганди могу градити везе на више начина: алил лиганд може бити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лил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лил,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октатетраене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же бити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3-диен),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ао хелатни лиганд, 1,5-диен),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,3,5-триен),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0" i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s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,3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лил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s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,7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лил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r>
                        <a:rPr b="0" lang="sr-R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3,5,7-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е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62000"/>
            <a:ext cx="91440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етала са монохапто лиган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700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 (R-), арил (Ar-)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ил 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H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)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тинил (CR≡C-), CO,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оцијано (RNC), карбидо 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 и арил радикали се понашају као једноелектронски донори (Pb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везати више од једног ме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л лиганд може такође везати различит број ме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702560" cy="1339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407880" y="6093000"/>
            <a:ext cx="87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и комплекси алуминијума са алкил и арил лиган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плекси метала са дихапто лиган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700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и, алк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метал-олефин значајна за катализе (интермедијери и утиче на ефикасност катализат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t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вадратно-планар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њен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лиганда се преклапа са d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ом метала и гради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 (примарно донорст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њена d-орбитала метала преклапа се са антивезивном орбиталом етилена и гради π-везивну и антивезивну орбиталу (повратном донациј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релазних метала с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1773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врсти хемијске везе коју стварају са централним јоном метала лиганди се могу поделити у две груп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е који стварају комплексе с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е који стварају комплексе с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197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а веза је краћа од везе метал-хлоро лиг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а сличне комплексе гради и са незасићеним угљоводоницима са троструком вез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Б = између 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Bu-C≡C нису линеарне 16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Ph-C≡C заклапају угао од 1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1882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946680" y="1916280"/>
            <a:ext cx="5002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ски метала са трихапто лиган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700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л група која се може везати за метале попут (Ni, V, Cr, Fe, Co, Rh, Ir) преко двоструке и терминалне в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веже само преко терминалне везе = монохап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 Грињаревог реагенса на никал-бромид добијају с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омери комплекса н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лентни јони ванадијум, хрома, гвожђа, кобалта, родијума и иридијума алил лиганд град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ил)метал комплексе [M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оровалентни јони цирконијума, торијума, молибдена и волфрама гра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k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м или под дејством светлости алил група, као монохапто лиганд прелази у трихапто лиг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547640" y="0"/>
            <a:ext cx="5842080" cy="201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0" y="4365720"/>
            <a:ext cx="91440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05228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л група се понаша и као мостни лиг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е мостних веза су различ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зује два атома ме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преко терминалног С-атома као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г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ко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ског пара као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г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збир свих мостних веза је приближно јед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2771640" y="4437000"/>
            <a:ext cx="554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етала са тетрахапто лиган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62828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са делокализованим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југовани диени, циклопентадиени, арени, хепта и октаар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са тетрахаптолигандима се добијају од карбонила метала супституцијом два карбонила одговарајућим ди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се може приказ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веза метала са два независн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к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веза са једним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кеном (атоми С2 и С3) и две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е са атомима угљеника С1 и С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4797360"/>
            <a:ext cx="5397480" cy="107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5148360" y="4941720"/>
            <a:ext cx="3773520" cy="1440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158080" y="648828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за 1,3-диена са мет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i и Pauson су синтетисали први комплекс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а(III)-јона са анјоном циклопентади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фулвалена оксидацијом циклопентадиенил-магнезијумбромида помоћу гвожђе(III)-хлорида →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феро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лвал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форму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циклопентадиена; б) циклопентадиенил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а; в) циклопоентил ради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етала са пентахапто лиган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4149720"/>
            <a:ext cx="315756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2916360" y="4243320"/>
            <a:ext cx="62276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355680" y="2602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692280" y="27082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феро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932360" y="198900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овани циклопентадиенски компл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а,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ијума и молибд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0" y="3141720"/>
            <a:ext cx="5889600" cy="1439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2"/>
          <p:cNvSpPr/>
          <p:nvPr/>
        </p:nvSpPr>
        <p:spPr>
          <a:xfrm>
            <a:off x="250920" y="479736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гвожђа 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циклопентил дерива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еђусобно повеза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пентадиенил прстен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2303280" cy="18338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4"/>
          <p:cNvSpPr/>
          <p:nvPr/>
        </p:nvSpPr>
        <p:spPr>
          <a:xfrm>
            <a:off x="6804000" y="515772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оц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4"/>
          <a:stretch/>
        </p:blipFill>
        <p:spPr>
          <a:xfrm>
            <a:off x="4092480" y="0"/>
            <a:ext cx="5051520" cy="171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5"/>
          <a:stretch/>
        </p:blipFill>
        <p:spPr>
          <a:xfrm>
            <a:off x="4067280" y="4724280"/>
            <a:ext cx="2178000" cy="14842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8"/>
          <p:cNvSpPr/>
          <p:nvPr/>
        </p:nvSpPr>
        <p:spPr>
          <a:xfrm>
            <a:off x="4157640" y="6149880"/>
            <a:ext cx="24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циклопентадиен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ил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етала са хексахапто лиган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672000" cy="2108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324360" y="472428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ибензенхром-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529080" cy="1917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4969440" y="508464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енилни комплекс х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95800" cy="2481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4456080" cy="21384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4722120" y="2205000"/>
            <a:ext cx="34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етала 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тахаптолиган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949280" y="4724280"/>
            <a:ext cx="346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етала 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хапто лиган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стварају комплексе са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916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 лиганди који имају слободан електронски пар у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орбитали, а немају у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орби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кве лиганде се убрајају они који имају само један електронски пар: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утрални алифатични амини,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имају два слободна електронска пара од којих је један у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орбитали, а други у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везивној молекулској орбитали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стварају комплексе са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у групу лиганада спад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и (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 (P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, py, bipy, phen, CO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 (P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, py, bipy, phen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цептори (CO,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 нивои молекулских орбитала хексаакватитан(III)-ј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63640" y="2284560"/>
            <a:ext cx="56880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релазних метала са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иганд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е спадају лиганди који имају три слободна електронска пара од којих се један налази у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орбитали, а друга два у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им орбиталама (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 лиганада који граде октаедарски комплекс имају укупно 6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1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екулских орби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: У стварању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учествују свих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, а у стварању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само три од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таквих комплекса долази до стварања две врсте хемијских веза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а  кажемо да је код тих комплекса веза метал-лиганд двост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релазних метала са лигандима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060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иганд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норе спадају јони халогених елемената (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имају попуњене невезивне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о енергетск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е орбит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ивне и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тиввезивне молекулске орбитр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означава  врсту орбитала које се преклап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су попуњене са шест електрона (од лиганда) а противвезивн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електронима метала из d-орби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an</cp:lastModifiedBy>
  <dcterms:modified xsi:type="dcterms:W3CDTF">2018-07-25T19:29:03Z</dcterms:modified>
  <cp:revision>171</cp:revision>
  <dc:subject/>
  <dc:title>Slide 1</dc:title>
</cp:coreProperties>
</file>